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F45EF-B6FB-4A50-91C7-B4D960300B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aracter Education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r. Anderson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aracter Trait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sponsibil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 Educ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. Anderson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 Trai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si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 accountable person thinks before acting, is reliable, and accepts responsibility for the consequences of his/her choic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ccountable person thinks before acting, is reliable, and accepts responsibility for the consequences of his/her cho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 accountable person doesn’t make excuses, or blame others for mistakes personally mad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ccountable person doesn’t make excuses, or blame others for mistakes personally ma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 accountable person sets a good example for others to look up to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ccountable person sets a good example for others to look up t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ursue Excellenc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hibiting diligence, perseverance, and striving for continuous improvemen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rsue Excellence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hibiting diligence, perseverance, and striving for continuous improve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cellence Examp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person pursuing excellence does his/her best at all times, being careful, prepared, and informe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llence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erson pursuing excellence does his/her best at all times, being careful, prepared, and inform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person pursuing excellence finishes what he/she starts and doesn’t give up easily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erson pursuing excellence finishes what he/she starts and doesn’t give up easily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person pursuing excellence takes the responsibility of looking for ways to improve his/her work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erson pursuing excellence takes the responsibility of looking for ways to improve his/her work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person pursuing excellence doesn’t surrender to obstacles or excuses, instead overcoming them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erson pursuing excellence doesn’t surrender to obstacles or excuses, instead overcoming them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sponsibility Wor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ccountab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pendab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liab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nes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ustworth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celle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epar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form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ccept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sibility W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oun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i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n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ustwort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ll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p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Wolf and the Crane.”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Aeso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olf and the Crane.”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es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sponsibility Definition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ing dependable and making good choic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sibility Definition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ing dependable and making good cho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cussion Questions for “The Wolf and the Crane.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.  Did the crane consider the consequences of her action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ion Questions for “The Wolf and the Crane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Did the crane consider the consequences of her act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cussion Questions for “The Wolf and the Crane.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.  Have you ever done something, then realized afterwards that you were fortunate to be unharmed by the consequence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ion Questions for “The Wolf and the Crane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Have you ever done something, then realized afterwards that you were fortunate to be unharmed by the consequenc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cussion Questions for “The Wolf and the Crane.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.  When you do something without thinking about the consequences, such as breaking a family rule, do you usually accept the consequences willingl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ion Questions for “The Wolf and the Crane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When you do something without thinking about the consequences, such as breaking a family rule, do you usually accept the consequences willingl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cussion Questions for “The Wolf and the Crane.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.  Is it good to understand actions and consequences at a young age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ion Questions for “The Wolf and the Crane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Is it good to understand actions and consequences at a young ag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cussion Questions for “The Wolf and the Crane.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.  Why do our decisions and actions have consequence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ion Questions for “The Wolf and the Crane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 Why do our decisions and actions have consequenc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sponsibility Quo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od men prefer to be accountable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Michael Edward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sibility Quo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men prefer to be accountable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Michael Edwar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sponsibility Quo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ou can’t escape the responsibility of tomorrow by evading it today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Abraham Lincol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sibility Quo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’t escape the responsibility of tomorrow by evading it today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braham Lincol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ith Privilege,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Responsibility.”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ith Privilege,</a:t>
            </a:r>
            <a:br>
              <a:rPr sz="1200"/>
            </a:b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es</a:t>
            </a:r>
            <a:br>
              <a:rPr sz="1200"/>
            </a:b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Responsibility.”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sponsibility Quo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willingness to accept responsibility for one’s own life is the source from which self-respect springs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Joan Didion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sibility Quo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illingness to accept responsibility for one’s own life is the source from which self-respect springs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Joan Didion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sponsibility Quo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f you take responsibility for yourself you will develop a hunger to accomplish your dreams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Les Brow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sibility Quo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take responsibility for yourself you will develop a hunger to accomplish your dreams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Les Br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sponsibility Quo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price of greatness is responsibility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Sir Winston Churchill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sibility Quo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ice of greatness is responsibility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ir Winston Churchill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sponsibility Quo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e are accountable only to ourselves for what happens in our lives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Mildred Newman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sibility Quo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are accountable only to ourselves for what happens in our lives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Mildred Newman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sponsibility Examp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sponsible people are accountable, pursue excellence, and exercise self-control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sibility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sible people are accountable, pursue excellence, and exercise self-contr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ccountable Examp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ccepting the blame or credit for one’s choices or behavio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ountable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pting the blame or credit for one’s choices or behavi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E9D4-6A92-4D6C-A368-1DEA03992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4A78-DFFA-4660-9B93-F8F2B02F8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9778-9158-4A53-AF72-015AC3244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1F8D-82DF-4196-BAF5-72D4D00AF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2DED1-AE33-4983-8DF8-70128F13B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17846-D9A5-4E6B-817D-23DE3E726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49349-4AD0-47C5-BB23-9451D3B2E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84823-0A82-4F17-A7E5-CE0DEEE73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DB0E9-6814-4FC3-A4DF-2DE5C5D65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0AD49-953C-4B38-9361-73E95268E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D2773-05EC-4C64-8E2A-D039FFCE0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38AD-6A41-473B-8C98-54128A9E5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6BEA9-0261-45F2-86E3-E5058C10F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EB38B-B8DB-408F-BF1C-69875F4E1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22A11-5B69-4D28-99EE-727423E3C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D7E74-4449-497E-8386-39E11D2C1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40AC6-674D-4077-9EAA-8A638217C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B8F4-B39E-4C77-9A3E-3CEA9E6AF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0DDC-FA4C-4382-BC9D-328113DFE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4F53-F4A0-4C78-9DEE-C503480FE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7B29-0921-49C3-8485-1F7939E81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C6D1-7A57-48E6-9CBC-98E1A5548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D184-171B-489F-AC62-0FCF23534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1489-58DC-400C-ABB7-798B3CA0D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r. Anderson's Character Development Cl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357CA-3199-42D9-AE04-2BAA1F7E03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r. Anderson's Character Development Cl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025A3-DB8D-49E8-B404-840C3C9BA0D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530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haracter Education</a:t>
            </a: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Mr. Anderson</a:t>
            </a:r>
            <a:br>
              <a:rPr sz="5400"/>
            </a:b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haracter Trait</a:t>
            </a: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Responsibility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8446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An accountable person thinks before acting, is reliable, and accepts responsibility for the consequences of his/her choices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040" y="838080"/>
            <a:ext cx="7086600" cy="464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An accountable person doesn’t make excuses, or blame others for mistakes personally made.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914040"/>
            <a:ext cx="8385120" cy="518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b7"/>
                </a:solidFill>
                <a:latin typeface="Arial Black"/>
              </a:rPr>
              <a:t>An accountable person sets a good example for others to look up to.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00620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Pursue Excellence:</a:t>
            </a:r>
            <a:br>
              <a:rPr sz="4000"/>
            </a:b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exhibiting diligence, perseverance, and striving for continuous improvement.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3" name="Picture 3" descr="j0216724"/>
          <p:cNvPicPr/>
          <p:nvPr/>
        </p:nvPicPr>
        <p:blipFill>
          <a:blip r:embed="rId1"/>
          <a:stretch/>
        </p:blipFill>
        <p:spPr>
          <a:xfrm>
            <a:off x="3200400" y="3429000"/>
            <a:ext cx="27432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xcellence Exampl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904760"/>
            <a:ext cx="47656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person pursuing excellence does his/her best at all times, being careful, prepared, and informed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6" descr="j0240719"/>
          <p:cNvPicPr/>
          <p:nvPr/>
        </p:nvPicPr>
        <p:blipFill>
          <a:blip r:embed="rId1"/>
          <a:stretch/>
        </p:blipFill>
        <p:spPr>
          <a:xfrm>
            <a:off x="5791320" y="2286000"/>
            <a:ext cx="25351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06360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A person pursuing excellence finishes what he/she starts and doesn’t give up easily.</a:t>
            </a: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06360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A person pursuing excellence takes the responsibility of looking for ways to improve his/her work.</a:t>
            </a: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06360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A person pursuing excellence doesn’t surrender to obstacles or excuses, instead overcoming them.</a:t>
            </a: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Responsibility Word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countabl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ependabl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liabl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nes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stworth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91796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xcellenc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epare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forme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ceptanc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2361960"/>
            <a:ext cx="91440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“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he Wolf and the Crane.”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-Aesop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00620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Responsibility Definition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Being dependable and making good choices.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7" name="Picture 7" descr="j0233018"/>
          <p:cNvPicPr/>
          <p:nvPr/>
        </p:nvPicPr>
        <p:blipFill>
          <a:blip r:embed="rId1"/>
          <a:stretch/>
        </p:blipFill>
        <p:spPr>
          <a:xfrm>
            <a:off x="3200400" y="3252960"/>
            <a:ext cx="2575080" cy="26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iscussion Questions for “The Wolf and the Crane.”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98108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1.  Did the crane consider the consequences of her actions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iscussion Questions for “The Wolf and the Crane.”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7720" y="198108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2.  Have you ever done something, then realized afterwards that you were fortunate to be unharmed by the consequences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iscussion Questions for “The Wolf and the Crane.”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7720" y="198108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3.  When you do something without thinking about the consequences, such as breaking a family rule, do you usually accept the consequences willingly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iscussion Questions for “The Wolf and the Crane.”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440" y="243828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4.  Is it good to understand actions and consequences at a young age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iscussion Questions for “The Wolf and the Crane.”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5.  Why do our decisions and actions have consequences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530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Responsibility Quote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Good men prefer to be accountable.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-Michael Edward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530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Responsibility Quote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You can’t escape the responsibility of tomorrow by evading it today.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-Abraham Lincol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06360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b7"/>
                </a:solidFill>
                <a:latin typeface="Arial Black"/>
              </a:rPr>
              <a:t>“</a:t>
            </a:r>
            <a:r>
              <a:rPr b="1" lang="en-US" sz="7200" spc="-1" strike="noStrike">
                <a:solidFill>
                  <a:srgbClr val="ffffb7"/>
                </a:solidFill>
                <a:latin typeface="Arial Black"/>
              </a:rPr>
              <a:t>With Privilege,</a:t>
            </a:r>
            <a:br>
              <a:rPr sz="7200"/>
            </a:br>
            <a:br>
              <a:rPr sz="7200"/>
            </a:br>
            <a:r>
              <a:rPr b="1" lang="en-US" sz="7200" spc="-1" strike="noStrike">
                <a:solidFill>
                  <a:srgbClr val="ffffb7"/>
                </a:solidFill>
                <a:latin typeface="Arial Black"/>
              </a:rPr>
              <a:t>Comes</a:t>
            </a:r>
            <a:br>
              <a:rPr sz="7200"/>
            </a:br>
            <a:br>
              <a:rPr sz="7200"/>
            </a:br>
            <a:r>
              <a:rPr b="1" lang="en-US" sz="7200" spc="-1" strike="noStrike">
                <a:solidFill>
                  <a:srgbClr val="ffffb7"/>
                </a:solidFill>
                <a:latin typeface="Arial Black"/>
              </a:rPr>
              <a:t> Responsibility.”</a:t>
            </a:r>
            <a:br>
              <a:rPr sz="4000"/>
            </a:br>
            <a:br>
              <a:rPr sz="4000"/>
            </a:br>
            <a:endParaRPr b="1" lang="en-US" sz="72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06360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Responsibility Quote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The willingness to accept responsibility for one’s own life is the source from which self-respect springs.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-Joan Didion</a:t>
            </a: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382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Responsibility Quote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If you take responsibility for yourself you will develop a hunger to accomplish your dreams.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-Les Brown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7180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Responsibility Quote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The price of greatness is responsibility.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-Sir Winston Churchill</a:t>
            </a: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06360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Responsibility Quote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We are accountable only to ourselves for what happens in our lives.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-Mildred Newman</a:t>
            </a: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Responsibility Exampl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92120" y="1904760"/>
            <a:ext cx="47656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sponsible people are accountable, pursue excellence, and exercise self-control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4" descr="j0090070"/>
          <p:cNvPicPr/>
          <p:nvPr/>
        </p:nvPicPr>
        <p:blipFill>
          <a:blip r:embed="rId1"/>
          <a:stretch/>
        </p:blipFill>
        <p:spPr>
          <a:xfrm>
            <a:off x="5410080" y="2057400"/>
            <a:ext cx="28195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ccountable Exampl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7656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cepting the blame or credit for one’s choices or behavior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7" descr="j0195812"/>
          <p:cNvPicPr/>
          <p:nvPr/>
        </p:nvPicPr>
        <p:blipFill>
          <a:blip r:embed="rId1"/>
          <a:stretch/>
        </p:blipFill>
        <p:spPr>
          <a:xfrm>
            <a:off x="5257800" y="2057400"/>
            <a:ext cx="250992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4T02:55:25Z</dcterms:created>
  <dc:creator>OKCPS</dc:creator>
  <dc:description/>
  <dc:language>en-US</dc:language>
  <cp:lastModifiedBy>RomaK</cp:lastModifiedBy>
  <dcterms:modified xsi:type="dcterms:W3CDTF">2015-09-02T09:35:23Z</dcterms:modified>
  <cp:revision>8</cp:revision>
  <dc:subject/>
  <dc:title>Character Education Responsibility</dc:title>
</cp:coreProperties>
</file>